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7494"/>
        <c:axId val="43211882"/>
      </c:barChart>
      <c:catAx>
        <c:axId val="2657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11882"/>
        <c:crosses val="autoZero"/>
        <c:auto val="1"/>
        <c:lblAlgn val="ctr"/>
        <c:lblOffset val="100"/>
        <c:noMultiLvlLbl val="0"/>
      </c:catAx>
      <c:valAx>
        <c:axId val="43211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7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617-6470-402B-A018-DEBA5E46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3C7-3382-4F9E-A73D-8C7296F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6A0-2626-4D5F-896E-C6547917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FFD-760D-4F33-9623-EA01B85B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692-53E5-4F08-92AB-BBAB1BC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B1F-FA0D-4148-9DBA-036EEFB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95D-6C91-4BDA-938E-7CB4B9DD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D79-C20D-4E86-BB79-1D56BA9A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CC2-6708-4828-B5B0-EF216A60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BB8-A377-4595-9D70-B800EE14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0B0-B7DE-44FF-AA70-661F2D2B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8D4-9771-47EF-ABB2-E7F02F0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94E2-5649-410A-9E57-17158A0380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