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46531"/>
        <c:axId val="15806763"/>
      </c:barChart>
      <c:catAx>
        <c:axId val="17546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6763"/>
        <c:crosses val="autoZero"/>
        <c:auto val="1"/>
        <c:lblAlgn val="ctr"/>
        <c:lblOffset val="100"/>
        <c:noMultiLvlLbl val="0"/>
      </c:catAx>
      <c:valAx>
        <c:axId val="1580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46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89D-756F-4B0E-B2AA-C5D0C74C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C1E-E567-4380-83A5-0EECBEA6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D1E-2B83-473A-B87E-624F8964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C5D-43D8-426A-AD84-AFDE9CD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EB9-EA2B-4ACF-9E52-E66EC11E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285-FA80-4467-95EB-1C0320F5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710-F4A7-4A85-BEBD-818F449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B69-FB1F-4935-84E7-89DE0F3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75E-E35A-4AE4-996F-29C38BAA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6EA-5A04-483A-9CE5-9DD2EC5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5D9-AF4D-4D8A-A310-75076C1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FB9-E02C-4AF0-A4B8-EDE97C4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B6F98-27A7-41DE-9097-DEF7B84A6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