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13736"/>
        <c:axId val="51512819"/>
      </c:barChart>
      <c:catAx>
        <c:axId val="64213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12819"/>
        <c:crosses val="autoZero"/>
        <c:auto val="1"/>
        <c:lblAlgn val="ctr"/>
        <c:lblOffset val="100"/>
        <c:noMultiLvlLbl val="0"/>
      </c:catAx>
      <c:valAx>
        <c:axId val="51512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13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E52-CA86-4411-AFCE-1D720819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FA0-75F9-4299-A862-6763B6B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467A-8963-4178-8118-5CCC96E7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960-3CEF-4B90-9A28-86E7FCD8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EA0-763A-4FC1-B47D-05D05ABF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FDB-CCB0-4FFD-B425-616E880C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E01-7C0A-49B6-B5D7-7F14FF2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200-CD7C-4588-ACCE-D35F6A82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844-665B-409D-8663-4423FF7E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44D-D2FA-4FA1-B798-5C91383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2F1-29F7-497F-9D9A-A67259A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1A7-BF32-499C-B571-65AC823E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C7A01-1CC9-431A-AF8B-4C1F362A3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