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71988"/>
        <c:axId val="61689345"/>
      </c:barChart>
      <c:catAx>
        <c:axId val="11871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89345"/>
        <c:crosses val="autoZero"/>
        <c:auto val="1"/>
        <c:lblAlgn val="ctr"/>
        <c:lblOffset val="100"/>
        <c:noMultiLvlLbl val="0"/>
      </c:catAx>
      <c:valAx>
        <c:axId val="61689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71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F15-0006-405E-932C-9AC05C42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6B9-6C2E-40F4-BA73-072EFDEA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9C5-522C-4C88-BE06-ECB775D5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753-9E61-4685-A902-8F8FC7C8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169-BDAE-48DC-B6EF-0DFBD23C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72E-A1A1-4F44-ACD7-BCDC8CEC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5E0-97C4-4CF1-BC44-885376BE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C01-334F-4F2E-B01B-047048CF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5D1-D07E-4EC9-94CB-582F4D08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5AA-B74F-48C1-A6FB-CA49E462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698-43BB-42A9-BFE2-E4F840D3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090-DB66-4C5D-8FAD-4C973B49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6044A-9DBC-4642-8E8C-15F4EE826B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