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49391"/>
        <c:axId val="23847379"/>
      </c:barChart>
      <c:catAx>
        <c:axId val="82349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47379"/>
        <c:crosses val="autoZero"/>
        <c:auto val="1"/>
        <c:lblAlgn val="ctr"/>
        <c:lblOffset val="100"/>
        <c:noMultiLvlLbl val="0"/>
      </c:catAx>
      <c:valAx>
        <c:axId val="23847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49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C13-3B70-4D74-BF5D-7EC575D9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E07-BB99-400D-B258-95854791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C32-4FBF-4A27-8288-1A958D45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ADF-F822-40C4-B7A0-091BB7E1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A5B-C229-4FEC-BC93-E76EDF3E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104-1412-4FDD-9A89-5CE9806A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7FB-4677-4986-A943-E0819076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0E0-C0C3-4697-8092-435F7F1B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754-F4D1-4660-8F7E-91FB6C90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9B1-03E1-4918-95BE-66B3B6CE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CEC-208C-4946-A02B-F46825FE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BE9-6F77-46AA-9B01-3CB700ED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0A302-02D3-4046-BC0A-B84B8DFC6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