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8164"/>
        <c:axId val="52777538"/>
      </c:barChart>
      <c:catAx>
        <c:axId val="8838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7538"/>
        <c:crosses val="autoZero"/>
        <c:auto val="1"/>
        <c:lblAlgn val="ctr"/>
        <c:lblOffset val="100"/>
        <c:noMultiLvlLbl val="0"/>
      </c:catAx>
      <c:valAx>
        <c:axId val="52777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8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A09-86D5-4409-A78C-97BBE857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5E0-939C-4179-A847-0E167849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12F-D83B-4FD2-B02C-28C8BDCD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B11-BD49-4876-84D4-BB72FA45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D5B-0A61-4517-8953-E90FBD15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9EB-3518-4C69-9237-1E6E995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FDD-4779-4EF9-8EE2-B7EA13C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C1D-977F-4AEC-BB61-E58ED20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1A1-6211-49BE-89D2-1217DA6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597-2074-4D79-87C3-B7EEAC2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7D3-A683-4DB8-9B6F-EE119B4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546-59AC-49A7-BFDF-9E7B942C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A96C5-CAA6-410D-A510-47F17F5D7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