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20011"/>
        <c:axId val="2086939"/>
      </c:barChart>
      <c:catAx>
        <c:axId val="55820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6939"/>
        <c:crosses val="autoZero"/>
        <c:auto val="1"/>
        <c:lblAlgn val="ctr"/>
        <c:lblOffset val="100"/>
        <c:noMultiLvlLbl val="0"/>
      </c:catAx>
      <c:valAx>
        <c:axId val="2086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20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759-DAA1-4836-958C-4552BC21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6E4-928A-43C2-B09D-6CC93890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8AE-1051-4E49-9E8F-AF823384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8D7-A62D-4720-AEFC-9F8F5DCA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824-182D-4B06-8D23-AF9CAF92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AED-9956-4677-AEA7-B37A299A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90A-58F4-4CE7-8411-ACF69598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23B-7B31-470E-9E61-2341AC64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213-C2D3-4436-94DE-DC616011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3EA-A44C-433A-B370-0070BD39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DC0-F860-49B8-A8A8-E16B49BB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90E-EF51-484C-878C-7173E4A3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6C0CE-0F6E-49D5-9EBB-9B0C14D8DC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