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40330"/>
        <c:axId val="4241560"/>
      </c:barChart>
      <c:catAx>
        <c:axId val="95940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1560"/>
        <c:crosses val="autoZero"/>
        <c:auto val="1"/>
        <c:lblAlgn val="ctr"/>
        <c:lblOffset val="100"/>
        <c:noMultiLvlLbl val="0"/>
      </c:catAx>
      <c:valAx>
        <c:axId val="4241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40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EF47-81E4-4544-98CB-D3AC81AF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8F6-B15B-4EF5-873B-4F87C609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7C9-B6D0-4838-99EB-10B0417B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B7C-80AC-4201-AB0C-65094EDD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5AD-EFCB-4C79-9FD6-0EFCCA89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4EE-8A4A-4765-AD88-02244144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EF1-8B6C-4AD2-9FB6-B6760E8B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F75-FC60-47FD-B820-C2530EBF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2BFE-D03D-4034-AB8F-72C65C0D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676-4447-413A-8D5A-92EC1FB9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7B9A-0466-4ACC-83D2-6E7AFAC3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EF4-73A2-4FCE-A9E6-7DFE2ADF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8CC7B-BDB1-4AA3-B5C8-E96A2A3E23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