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206417"/>
        <c:axId val="86469695"/>
      </c:barChart>
      <c:catAx>
        <c:axId val="142064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469695"/>
        <c:crosses val="autoZero"/>
        <c:auto val="1"/>
        <c:lblAlgn val="ctr"/>
        <c:lblOffset val="100"/>
        <c:noMultiLvlLbl val="0"/>
      </c:catAx>
      <c:valAx>
        <c:axId val="864696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2064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7755-20DF-4116-A6CD-DF82477CE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2203-DDA8-46D1-AFAF-034941B65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DB73-5344-4C85-A926-70357C533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E6F6-07C2-4938-ABD7-F639211C8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71B1-5FDE-4CED-BF92-89A669565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70CE-E9E7-4C3A-BDF3-3F0F29BFF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D30A-3DB0-49DC-A483-72D639D52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06AA-F772-4FFA-A5E6-77F3E9010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0291-EC97-47B8-ADDB-F1E755FA5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B805-3C6C-48C8-9834-3AE04E15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5CE0-261F-4567-B337-3563E02F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954D-75C2-45A0-8782-36EA02CA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C09028-250C-4F19-9EFD-189FC764B3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